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6F887-B6DF-404C-9CB5-829185B5CC76}" type="datetime">
              <a:rPr b="0" i="1" lang="en-US" sz="1000" spc="-1" strike="noStrike">
                <a:solidFill>
                  <a:srgbClr val="000000"/>
                </a:solidFill>
                <a:latin typeface="Arial"/>
              </a:rPr>
              <a:t>07/29/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256DD-70C4-4AA2-B6A1-538FB84F34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41A25-9029-453F-B43D-CF5D7798E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E6EA7-D5C2-44BE-B5DD-6E29E95FF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DE3EB-18FE-47E6-9C7D-ECF123B2F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C9901-9EBD-4B91-8A1A-DCF39131C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02F3-39F8-4128-8716-AC72EEA90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20F6F-EF1E-4193-B501-2B2FAF900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7A76-A19B-4F19-8C3B-EB1760C09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EAB9D-DC7E-4D75-88FA-703CBBB8E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E3A1-46DE-4753-AF3E-17F24BAC5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01CEB-A995-4026-8295-457E0F0A5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24D38-B56D-485F-8B14-EAFD33ED1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EEC02-9EBB-4EAF-B7B3-5850738D1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DA0F-3373-4ED1-99E2-15C5754AB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D354-6D92-4618-A571-8C38B8518B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